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2A671-E962-42AD-BE30-A9160507A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531EA-CFD2-40E1-852E-9743188E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EFE2A-5BC1-4950-88BE-C5AC0A1F2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39264-F4F1-4817-A359-A0270ADE7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89F4-A682-4A06-9873-A2C44862E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2911-6D72-47B9-A619-274C712F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5D1A7-25F5-412F-9DCA-D41C1986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6992-94B9-4B02-A723-464C59AC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0976-8287-4F14-BB19-B44CBA241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9FCD5-E3EF-4E04-9C49-3F3AD6B9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5650-9F68-445B-AB3A-CFF0925B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A4711-AD2D-4787-AAF0-3CBB8C47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FF7C4-557C-4BC9-BD8A-ECFAB1D9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6B7F0-846C-4730-AFFB-4912A43F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C2700-4020-4C5E-BE1C-CAA9E40A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8BB2B-D917-4DFE-97B0-7EC75F417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1907-9593-49B9-9B83-BDDE14678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33781-6AD6-4681-98B2-9AF86FC0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9E177-95AF-47CE-9361-B769315F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36690-45EC-4990-9424-5B532316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628DC-0161-423A-8497-FF257E90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5B752-83E8-4A21-AE24-8077C720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DBC53-D021-42D1-A7EF-89FCC48C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D32B0-4F76-4A00-9A5D-C9A95289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7638-9B41-4841-B0E7-05B6F86D4F1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C4D4-EAF9-4EA9-907C-7ABA8EC5B89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Environmental problem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ткрытый урок в 10 А класс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читель: Анварова Л.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БОУ Балтасинская гимназия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ground  rock  roots  leaves  bark  trunk  branch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00000" y="184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.The part of a plant which is under the surfa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. The small green things on plants and tre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. A part of a tree which has leaves on i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. The tall, round, central part of a tre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. The hard outside surface of a tre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6. What the earth is made of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7.The surface of the earth, where we walk or sta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4" descr="1"/>
          <p:cNvPicPr/>
          <p:nvPr/>
        </p:nvPicPr>
        <p:blipFill>
          <a:blip r:embed="rId1"/>
          <a:stretch/>
        </p:blipFill>
        <p:spPr>
          <a:xfrm>
            <a:off x="250920" y="260280"/>
            <a:ext cx="8497800" cy="61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Which person says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  we can do more to help?_________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   you should put on lots of sun cream?_______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  we should stop using certain products? ________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  ozone can be good and bad? ________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  he/she doesn’t wear a hat in the sun? _________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  clouds do not protect you from the sun? __________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Match the words in list A with the words in list B to make phrases about environmental problems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. glob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. ozo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. aci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. exhau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. dump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6. aeroso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7. endanger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 lay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  warm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  fum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  rubbis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  spec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  ra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 cans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Match the verbs in list A with the words in list B to make phrases which give solutions to environmental problems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 clo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  lea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  protec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  sa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  recyc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6  b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 the car at ho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  rubbis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  aeroso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  anima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  factor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  wat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Which problems and solutions match these comment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y should close that chemical factor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.Why don’t people use public transport more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. We must stop using aerosol hairspray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. We should use old papers and bottles agai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. We ought to ban hunting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780000" y="1557000"/>
            <a:ext cx="4906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blem       Solu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cid rain       close factori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4" descr="2"/>
          <p:cNvPicPr/>
          <p:nvPr/>
        </p:nvPicPr>
        <p:blipFill>
          <a:blip r:embed="rId1"/>
          <a:stretch/>
        </p:blipFill>
        <p:spPr>
          <a:xfrm>
            <a:off x="0" y="-747720"/>
            <a:ext cx="9396360" cy="8856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2T20:18:11Z</dcterms:created>
  <dc:creator>user</dc:creator>
  <dc:description/>
  <dc:language>en-US</dc:language>
  <cp:lastModifiedBy>Lilija</cp:lastModifiedBy>
  <dcterms:modified xsi:type="dcterms:W3CDTF">2013-02-26T04:36:31Z</dcterms:modified>
  <cp:revision>8</cp:revision>
  <dc:subject/>
  <dc:title>ground  rock  roots  leaves  bark  trunk  branch</dc:title>
</cp:coreProperties>
</file>