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29.png" ContentType="image/png"/>
  <Override PartName="/ppt/media/image2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E88-6ADF-40CF-9525-6EF80A01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046-6598-4CA4-B25F-D00FFF02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0DD-BC90-47B8-96C0-84EDCC50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DAB-7088-4447-8547-894AB3E4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FB6A-3761-45E0-B3C2-98B1D827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EA77-5FE6-4AC1-B6EC-F0EE77F9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44F1-1F7C-434C-BADA-05FA5E61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7ACE-F29C-47FC-8E5F-985E20C4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6B2E-9998-46D3-A867-0690E843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B910-C179-45FC-923A-FD1102A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46D2-AF0A-4481-9D40-7859EFC3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A2C-A176-41CD-AA8D-EB64D76F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D716-E191-46A7-927C-D889357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E724-FD60-4CB0-8DA0-BBDFF68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AD78-8F6D-4EDB-BDBA-223F3C1F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CC09-A101-4987-AE59-FD419088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8FCA-F638-4B9F-B5C4-21C96C9C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88A0D-EFCB-401B-90DA-B870619B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50D3B-BE51-480F-9F3F-BBBB0D81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87972-3CFD-4A82-BED6-F55E7E39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0F3CE-201D-4B49-A705-F453496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D8FF9-6F6C-4CF1-9EA8-4968DE31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B57-B635-4732-B9FF-05D30D5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7068B-89AE-4FE7-BA32-D0BE4617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AFD4B-243F-4CBF-BB9B-5A6CF1E7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C1AC1-BABE-4CE5-9FD3-70955ED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2FFCC-92A1-405E-AB77-45A3591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BCDF5-D322-4154-963D-54946F4A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13E95-B978-4509-9F74-95DB6759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C9D4D-F111-49F6-90CF-EC103CA4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82BE-9B7D-4636-9654-43A830B3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ABB1-1973-407F-B088-4A280680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11A7-717E-4CB4-9638-E73B50DD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D1E-B38A-44EA-AA1F-CFF9174C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F8C2-4395-45A1-92F9-24A1DDB0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186D-3B2C-44D3-BEBF-6576BAF5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78BF-B353-420A-AC35-6F7F9391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12173-8500-4CE1-9594-6199505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7442-9240-4C95-839E-66FBE9F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748A-E7D0-40E9-8F27-C7D3F3F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41B98-0B15-4BC4-945B-47CB9070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F6C2-284B-4245-9324-9F6DF38F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6F1A5-39CD-4307-B3CD-F661D63D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D7E63-79D6-43B2-B0F7-50213CBB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EBF-6207-4705-A5E3-8A3E11C6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36CB9-8FC3-4CE2-AD1E-141BA4DC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0B24F-8CCA-4515-A7D4-B29F11A2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A1BD1-C4EB-4CF3-A7FF-10EBE61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A7EF5-D9B9-4E5C-B147-E7D8A1BD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C3640-D4BC-4FE0-932F-388E46FC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8E533-9A49-4DA1-A894-1CF5D7E8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A9E80-A555-468E-92EA-00F6543A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1C8F1-F6A0-4F4B-A515-28ACDC4A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B6E40-B0C0-462B-9B42-D6186A7C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BAB9B-CC3E-4DFC-AF16-8F7FEA85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9FE-56D3-4C26-81BE-07E745B0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6F031-96DF-48B8-B605-5E8CD4AB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48D47-DF8D-4519-B632-C9AD9783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0F76A-EDED-4DE4-B45C-9D36ADD6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884A0-614B-4A21-8C0A-E6B8EC16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1C495-2143-45EE-B502-C7E5511C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5AF4B-4ACF-4F21-B838-E4F340D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876E0-0FAA-47D9-9A1D-D4E09ED2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698F9-AAC6-4F2A-90FC-186A551B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EB900-C4E6-4B84-8CF6-ECDED362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6B877-A2F3-4B1F-AD38-74457A1A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6AD-9A2C-401D-AFA0-15651E73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05413-A8B3-4734-B54E-1C02B136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F5F49-4864-4ED5-8A68-3B54A209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52A0D-DB8B-43E8-85CD-4AE86690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7A797-8B70-4147-AECE-4D00E16F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AB4A6-8779-476A-8A0C-D2554816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24BC5-D509-47A6-ABBE-9DB3034F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ADD8D-902F-4A20-ADC4-3A18522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60B4D-3ABD-4E06-B993-50C0FC55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9DBE4-F1BE-4E0B-B6BC-24A3E7C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3983B-FF64-48A4-8600-B12D5F5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A3E-CEE4-488E-91F4-8C5D201F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70844-4D53-41BB-81C4-D9FC4077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A45FD-A00E-49A9-A562-72A70828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DB0DC0-208B-4F39-9BD3-C905C9DC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00EF3-7897-4564-ABC9-F7831EBE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B2992-54F9-4141-A341-012E1376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C24-7081-4BE3-A131-18435D15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F1F0-0E9F-4D4C-9EF2-EA9E15FFF5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561D-3CD9-49C6-A1B5-E1BEE9B3CB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B2E4-5F9B-433F-A071-86CFEBCB3E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CAB2-4409-4D37-BF2E-2607167D0E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BE6-14C6-4786-BAB4-E59158BE5D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F41-4C4B-499F-8ABD-1EEABC632E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FC26-41DD-40A6-AB01-9D6D39665E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грипп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354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8" descr="5.jpg"/>
          <p:cNvPicPr/>
          <p:nvPr/>
        </p:nvPicPr>
        <p:blipFill>
          <a:blip r:embed="rId3"/>
          <a:stretch/>
        </p:blipFill>
        <p:spPr>
          <a:xfrm>
            <a:off x="6934320" y="3200400"/>
            <a:ext cx="15843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"/>
          <p:cNvSpPr/>
          <p:nvPr/>
        </p:nvSpPr>
        <p:spPr>
          <a:xfrm>
            <a:off x="457200" y="762120"/>
            <a:ext cx="3657600" cy="2361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публике Татарстан в сезон 2015-2016 гг. привито  1039640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право с вырезом 4"/>
          <p:cNvSpPr/>
          <p:nvPr/>
        </p:nvSpPr>
        <p:spPr>
          <a:xfrm>
            <a:off x="4191120" y="137160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"/>
          <p:cNvSpPr/>
          <p:nvPr/>
        </p:nvSpPr>
        <p:spPr>
          <a:xfrm>
            <a:off x="5715000" y="685800"/>
            <a:ext cx="3124080" cy="25909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- 27,3% от численност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5638680" y="3657600"/>
            <a:ext cx="3200400" cy="2209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– 31,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право с вырезом 7"/>
          <p:cNvSpPr/>
          <p:nvPr/>
        </p:nvSpPr>
        <p:spPr>
          <a:xfrm>
            <a:off x="4114800" y="449568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457200" y="3809880"/>
            <a:ext cx="3429000" cy="2286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 в сезон 2015-2016 гг. привито  44,9 млн.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ИЗНАКИ ГРИППА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зкое повышение температуры тела (выше 38°С) без каких- либо сопутствующих симптом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ловная бо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мыщц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горле, каш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морк, заложенность но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вота и диаре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\\fs\Отделы\ЭПИДНАДЗОР\Василенко-ЯО\ГРИПП\МЕРОПРИЯТИЯ_ГРИПП\разьяснит работа-НАСЕЛЕНИЕ сезон 16-17 гг\В ТО письмо-4.08.16 г\migren-i-temperatura.jpg"/>
          <p:cNvPicPr/>
          <p:nvPr/>
        </p:nvPicPr>
        <p:blipFill>
          <a:blip r:embed="rId1"/>
          <a:stretch/>
        </p:blipFill>
        <p:spPr>
          <a:xfrm>
            <a:off x="4648320" y="1066680"/>
            <a:ext cx="1904760" cy="1168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\\fs\Отделы\ЭПИДНАДЗОР\Василенко-ЯО\ГРИПП\МЕРОПРИЯТИЯ_ГРИПП\разьяснит работа-НАСЕЛЕНИЕ сезон 16-17 гг\В ТО письмо-4.08.16 г\goglovnaya_bol.jpg"/>
          <p:cNvPicPr/>
          <p:nvPr/>
        </p:nvPicPr>
        <p:blipFill>
          <a:blip r:embed="rId2"/>
          <a:stretch/>
        </p:blipFill>
        <p:spPr>
          <a:xfrm>
            <a:off x="6858000" y="106668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\\fs\Отделы\ЭПИДНАДЗОР\Василенко-ЯО\ГРИПП\МЕРОПРИЯТИЯ_ГРИПП\разьяснит работа-НАСЕЛЕНИЕ сезон 16-17 гг\В ТО письмо-4.08.16 г\oznob-i-potlivost-bez-temperatury.jpg"/>
          <p:cNvPicPr/>
          <p:nvPr/>
        </p:nvPicPr>
        <p:blipFill>
          <a:blip r:embed="rId3"/>
          <a:stretch/>
        </p:blipFill>
        <p:spPr>
          <a:xfrm>
            <a:off x="6477120" y="2286000"/>
            <a:ext cx="1981080" cy="1185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\\fs\Отделы\ЭПИДНАДЗОР\Василенко-ЯО\ГРИПП\МЕРОПРИЯТИЯ_ГРИПП\разьяснит работа-НАСЕЛЕНИЕ сезон 16-17 гг\В ТО письмо-4.08.16 г\1_142.jpg"/>
          <p:cNvPicPr/>
          <p:nvPr/>
        </p:nvPicPr>
        <p:blipFill>
          <a:blip r:embed="rId4"/>
          <a:stretch/>
        </p:blipFill>
        <p:spPr>
          <a:xfrm>
            <a:off x="5943600" y="3581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\\fs\Отделы\ЭПИДНАДЗОР\Василенко-ЯО\ГРИПП\МЕРОПРИЯТИЯ_ГРИПП\разьяснит работа-НАСЕЛЕНИЕ сезон 16-17 гг\В ТО письмо-4.08.16 г\55000.jpg"/>
          <p:cNvPicPr/>
          <p:nvPr/>
        </p:nvPicPr>
        <p:blipFill>
          <a:blip r:embed="rId5"/>
          <a:stretch/>
        </p:blipFill>
        <p:spPr>
          <a:xfrm>
            <a:off x="4572000" y="2514600"/>
            <a:ext cx="1698480" cy="1924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\\fs\Отделы\ЭПИДНАДЗОР\Василенко-ЯО\ГРИПП\МЕРОПРИЯТИЯ_ГРИПП\разьяснит работа-НАСЕЛЕНИЕ сезон 16-17 гг\В ТО письмо-4.08.16 г\kak-lechit-otravlenie-u-detej-rvota-i-temperatura-11.jpg"/>
          <p:cNvPicPr/>
          <p:nvPr/>
        </p:nvPicPr>
        <p:blipFill>
          <a:blip r:embed="rId6"/>
          <a:stretch/>
        </p:blipFill>
        <p:spPr>
          <a:xfrm>
            <a:off x="4419720" y="4724280"/>
            <a:ext cx="1523880" cy="1764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1"/>
          <p:cNvSpPr/>
          <p:nvPr/>
        </p:nvSpPr>
        <p:spPr>
          <a:xfrm>
            <a:off x="685800" y="61722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ЗАРАЗИТЬСЯ ВИРУСОМ ГРИППА И ГД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больным человеко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человеком с признаками гриппа на расстоянии до 2 м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огут заразиться в детском саду и школе, взрослые в общественных местах (театры, торговые центры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9" descr="http://www.factroom.ru/facts/wp-content/uploads/2014/04/454-620x413.jpg"/>
          <p:cNvPicPr/>
          <p:nvPr/>
        </p:nvPicPr>
        <p:blipFill>
          <a:blip r:embed="rId1"/>
          <a:stretch/>
        </p:blipFill>
        <p:spPr>
          <a:xfrm>
            <a:off x="762120" y="4419720"/>
            <a:ext cx="3276360" cy="2182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http://s25.uo15.ru/wp-content/uploads/2015/09/%D0%93%D0%98%D0%91%D0%94%D0%94_2015_2.jpg"/>
          <p:cNvPicPr/>
          <p:nvPr/>
        </p:nvPicPr>
        <p:blipFill>
          <a:blip r:embed="rId2"/>
          <a:stretch/>
        </p:blipFill>
        <p:spPr>
          <a:xfrm>
            <a:off x="5181480" y="2438280"/>
            <a:ext cx="3522960" cy="1981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http://las-vegas.su/wp-content/uploads/2015/06/detskie-parovoziki.png"/>
          <p:cNvPicPr/>
          <p:nvPr/>
        </p:nvPicPr>
        <p:blipFill>
          <a:blip r:embed="rId3"/>
          <a:stretch/>
        </p:blipFill>
        <p:spPr>
          <a:xfrm>
            <a:off x="5029200" y="4724280"/>
            <a:ext cx="364500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\\fs\Отделы\ЭПИДНАДЗОР\Василенко-ЯО\ГРИПП\МЕРОПРИЯТИЯ_ГРИПП\разьяснит работа-НАСЕЛЕНИЕ сезон 16-17 гг\В ТО письмо-4.08.16 г\198340.jpg"/>
          <p:cNvPicPr/>
          <p:nvPr/>
        </p:nvPicPr>
        <p:blipFill>
          <a:blip r:embed="rId4"/>
          <a:stretch/>
        </p:blipFill>
        <p:spPr>
          <a:xfrm>
            <a:off x="685800" y="2286000"/>
            <a:ext cx="3581280" cy="20430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9"/>
          <p:cNvSpPr/>
          <p:nvPr/>
        </p:nvSpPr>
        <p:spPr>
          <a:xfrm>
            <a:off x="41148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БЕРЕЧЬСЯ ОТ ЗАРАЖЕНИЯ ГРИППОМ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457200"/>
            <a:ext cx="3657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елать прививку против грипп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сещения мест большого скопления люде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крывать нос и рот при чихании или кашле одноразовой салфетк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встрече с человеком с признаками гриппа, держитесь от него на расстоянии &gt; 2 м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о проветривать помещ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жная уборка помещени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ноценно питаться, высыпаться, избегать переутомл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рикасаться к глазам, носу или рту немытыми руками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держиваться правил личной гигиены, часто мыть руки с мыл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\\fs\Отделы\ЭПИДНАДЗОР\Василенко-ЯО\ГРИПП\МЕРОПРИЯТИЯ_ГРИПП\разьяснит работа-НАСЕЛЕНИЕ сезон 16-17 гг\В ТО письмо-4.08.16 г\depositphotos_11078500-in-the-crowd.jpg"/>
          <p:cNvPicPr/>
          <p:nvPr/>
        </p:nvPicPr>
        <p:blipFill>
          <a:blip r:embed="rId1"/>
          <a:stretch/>
        </p:blipFill>
        <p:spPr>
          <a:xfrm>
            <a:off x="6477120" y="533520"/>
            <a:ext cx="2212920" cy="1676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\\fs\Отделы\ЭПИДНАДЗОР\Василенко-ЯО\ГРИПП\МЕРОПРИЯТИЯ_ГРИПП\разьяснит работа-НАСЕЛЕНИЕ сезон 16-17 гг\В ТО письмо-4.08.16 г\i.jpg"/>
          <p:cNvPicPr/>
          <p:nvPr/>
        </p:nvPicPr>
        <p:blipFill>
          <a:blip r:embed="rId2"/>
          <a:stretch/>
        </p:blipFill>
        <p:spPr>
          <a:xfrm>
            <a:off x="4419720" y="609480"/>
            <a:ext cx="1523880" cy="1503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\\fs\Отделы\ЭПИДНАДЗОР\Василенко-ЯО\ГРИПП\МЕРОПРИЯТИЯ_ГРИПП\разьяснит работа-НАСЕЛЕНИЕ сезон 16-17 гг\В ТО письмо-4.08.16 г\kak-predupredit-gripp_11_1.jpeg"/>
          <p:cNvPicPr/>
          <p:nvPr/>
        </p:nvPicPr>
        <p:blipFill>
          <a:blip r:embed="rId3"/>
          <a:stretch/>
        </p:blipFill>
        <p:spPr>
          <a:xfrm>
            <a:off x="6248520" y="2286000"/>
            <a:ext cx="2058840" cy="1544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\\fs\Отделы\ЭПИДНАДЗОР\Василенко-ЯО\ГРИПП\МЕРОПРИЯТИЯ_ГРИПП\разьяснит работа-НАСЕЛЕНИЕ сезон 16-17 гг\В ТО письмо-4.08.16 г\Plastikovie_okna_pravilniy.jpg"/>
          <p:cNvPicPr/>
          <p:nvPr/>
        </p:nvPicPr>
        <p:blipFill>
          <a:blip r:embed="rId4"/>
          <a:stretch/>
        </p:blipFill>
        <p:spPr>
          <a:xfrm>
            <a:off x="6400800" y="3809880"/>
            <a:ext cx="2057400" cy="1322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\\fs\Отделы\ЭПИДНАДЗОР\Василенко-ЯО\ГРИПП\МЕРОПРИЯТИЯ_ГРИПП\разьяснит работа-НАСЕЛЕНИЕ сезон 16-17 гг\В ТО письмо-4.08.16 г\wash_hands1.jpg"/>
          <p:cNvPicPr/>
          <p:nvPr/>
        </p:nvPicPr>
        <p:blipFill>
          <a:blip r:embed="rId5"/>
          <a:stretch/>
        </p:blipFill>
        <p:spPr>
          <a:xfrm>
            <a:off x="3962520" y="21337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\\fs\Отделы\ЭПИДНАДЗОР\Василенко-ЯО\ГРИПП\МЕРОПРИЯТИЯ_ГРИПП\разьяснит работа-НАСЕЛЕНИЕ сезон 16-17 гг\В ТО письмо-4.08.16 г\i (1).jpg"/>
          <p:cNvPicPr/>
          <p:nvPr/>
        </p:nvPicPr>
        <p:blipFill>
          <a:blip r:embed="rId6"/>
          <a:stretch/>
        </p:blipFill>
        <p:spPr>
          <a:xfrm>
            <a:off x="4495680" y="3886200"/>
            <a:ext cx="2133720" cy="240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уборка"/>
          <p:cNvPicPr/>
          <p:nvPr/>
        </p:nvPicPr>
        <p:blipFill>
          <a:blip r:embed="rId7"/>
          <a:stretch/>
        </p:blipFill>
        <p:spPr>
          <a:xfrm>
            <a:off x="6629400" y="5105520"/>
            <a:ext cx="1628640" cy="144756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4"/>
          <p:cNvSpPr/>
          <p:nvPr/>
        </p:nvSpPr>
        <p:spPr>
          <a:xfrm>
            <a:off x="838080" y="6172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Я ОТ ГРИПП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кцинироваться от гриппа нужно в осенний период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ивка не ослабляет, а наоборот, усиливает способность организма противостоять грипп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кцинация проводится после осмотра врач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\\fs\Отделы\ЭПИДНАДЗОР\Василенко-ЯО\ГРИПП\МЕРОПРИЯТИЯ_ГРИПП\разьяснит работа-НАСЕЛЕНИЕ сезон 16-17 гг\В ТО письмо-4.08.16 г\2477752_шприц-вектора-стороны-эскиз-cartoon-медицинской.jpg"/>
          <p:cNvPicPr/>
          <p:nvPr/>
        </p:nvPicPr>
        <p:blipFill>
          <a:blip r:embed="rId1"/>
          <a:stretch/>
        </p:blipFill>
        <p:spPr>
          <a:xfrm>
            <a:off x="3352680" y="41148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8"/>
          <p:cNvSpPr/>
          <p:nvPr/>
        </p:nvSpPr>
        <p:spPr>
          <a:xfrm>
            <a:off x="304920" y="617220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ГРИПП ОПАСНЫЙ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 5 лет (особенно дети до 2 ле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ахарным диабет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 хроническими заболеваниями легки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ременные женщин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лишним вес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льные с хроническими сердечно-сосудистыми заболевания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другими хроническими заболеван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тарше 60 л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1066680" y="6095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ГРУППЫ РИСК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цинские работн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ля и воспитател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авц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ители, кондукт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ники общественных мес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\\fs\Отделы\ЭПИДНАДЗОР\Василенко-ЯО\ГРИПП\МЕРОПРИЯТИЯ_ГРИПП\разьяснит работа-НАСЕЛЕНИЕ сезон 16-17 гг\В ТО письмо-4.08.16 г\6960575.png"/>
          <p:cNvPicPr/>
          <p:nvPr/>
        </p:nvPicPr>
        <p:blipFill>
          <a:blip r:embed="rId1"/>
          <a:stretch/>
        </p:blipFill>
        <p:spPr>
          <a:xfrm>
            <a:off x="4343400" y="1981080"/>
            <a:ext cx="1828800" cy="1241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6" descr="\\fs\Отделы\ЭПИДНАДЗОР\Василенко-ЯО\ГРИПП\МЕРОПРИЯТИЯ_ГРИПП\разьяснит работа-НАСЕЛЕНИЕ сезон 16-17 гг\В ТО письмо-4.08.16 г\depositphotos_47242093-Delivery-truck-driver-waving-cartoon.jpg"/>
          <p:cNvPicPr/>
          <p:nvPr/>
        </p:nvPicPr>
        <p:blipFill>
          <a:blip r:embed="rId2"/>
          <a:stretch/>
        </p:blipFill>
        <p:spPr>
          <a:xfrm>
            <a:off x="4564080" y="3421080"/>
            <a:ext cx="15840" cy="14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8" descr="\\fs\Отделы\ЭПИДНАДЗОР\Василенко-ЯО\ГРИПП\МЕРОПРИЯТИЯ_ГРИПП\разьяснит работа-НАСЕЛЕНИЕ сезон 16-17 гг\В ТО письмо-4.08.16 г\11529427-Cartoon-car-with-a-man-driver-and-passenger-a-woman-Vector-Stock-Vector.jpg"/>
          <p:cNvPicPr/>
          <p:nvPr/>
        </p:nvPicPr>
        <p:blipFill>
          <a:blip r:embed="rId3"/>
          <a:stretch/>
        </p:blipFill>
        <p:spPr>
          <a:xfrm>
            <a:off x="6477120" y="3809880"/>
            <a:ext cx="1676160" cy="1374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9" descr="\\fs\Отделы\ЭПИДНАДЗОР\Василенко-ЯО\ГРИПП\МЕРОПРИЯТИЯ_ГРИПП\разьяснит работа-НАСЕЛЕНИЕ сезон 16-17 гг\В ТО письмо-4.08.16 г\train-conductor.jpg"/>
          <p:cNvPicPr/>
          <p:nvPr/>
        </p:nvPicPr>
        <p:blipFill>
          <a:blip r:embed="rId4"/>
          <a:stretch/>
        </p:blipFill>
        <p:spPr>
          <a:xfrm>
            <a:off x="4267080" y="4267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0" descr="\\fs\Отделы\ЭПИДНАДЗОР\Василенко-ЯО\ГРИПП\МЕРОПРИЯТИЯ_ГРИПП\разьяснит работа-НАСЕЛЕНИЕ сезон 16-17 гг\В ТО письмо-4.08.16 г\ne_zabytoe_staroe.jpg"/>
          <p:cNvPicPr/>
          <p:nvPr/>
        </p:nvPicPr>
        <p:blipFill>
          <a:blip r:embed="rId5"/>
          <a:stretch/>
        </p:blipFill>
        <p:spPr>
          <a:xfrm>
            <a:off x="5943600" y="5334120"/>
            <a:ext cx="1828800" cy="1217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\\fs\Отделы\ЭПИДНАДЗОР\Василенко-ЯО\ГРИПП\МЕРОПРИЯТИЯ_ГРИПП\разьяснит работа-НАСЕЛЕНИЕ сезон 16-17 гг\В ТО письмо-4.08.16 г\рррррррррррр.jpg"/>
          <p:cNvPicPr/>
          <p:nvPr/>
        </p:nvPicPr>
        <p:blipFill>
          <a:blip r:embed="rId6"/>
          <a:stretch/>
        </p:blipFill>
        <p:spPr>
          <a:xfrm>
            <a:off x="1600200" y="342900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3" descr="\\fs\Отделы\ЭПИДНАДЗОР\Василенко-ЯО\ГРИПП\МЕРОПРИЯТИЯ_ГРИПП\разьяснит работа-НАСЕЛЕНИЕ сезон 16-17 гг\В ТО письмо-4.08.16 г\sm.jpg"/>
          <p:cNvPicPr/>
          <p:nvPr/>
        </p:nvPicPr>
        <p:blipFill>
          <a:blip r:embed="rId7"/>
          <a:stretch/>
        </p:blipFill>
        <p:spPr>
          <a:xfrm>
            <a:off x="1219320" y="1066680"/>
            <a:ext cx="1218960" cy="156852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5"/>
          <p:cNvSpPr/>
          <p:nvPr/>
        </p:nvSpPr>
        <p:spPr>
          <a:xfrm>
            <a:off x="1066680" y="6095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7"/>
          <p:cNvSpPr/>
          <p:nvPr/>
        </p:nvSpPr>
        <p:spPr>
          <a:xfrm>
            <a:off x="684360" y="4797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делай прививку сейчас, чтобы не болеть пот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1</cp:lastModifiedBy>
  <dcterms:modified xsi:type="dcterms:W3CDTF">2016-09-13T04:55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