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wmf" ContentType="image/x-wmf"/>
  <Override PartName="/ppt/media/image23.jpeg" ContentType="image/jpeg"/>
  <Override PartName="/ppt/media/image29.png" ContentType="image/png"/>
  <Override PartName="/ppt/media/image2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3254-4DC7-4A44-83D0-5827DE0E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0255-1656-49CE-AA69-A6C19751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A380-4E7D-4277-9151-46C78D46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7B6-9BE8-4C7B-A4FC-B947A7B5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D349-4277-4C7C-A3ED-D5EA4E71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B40E-87CF-4A11-989E-E4B2B4ED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F1EF-FA6F-44E6-BD0C-F23E60BB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D89B-BB73-4565-B962-4169DA64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CA29-2544-444D-88D6-463D0FFE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207F-B652-496C-8005-402C9EEC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EF18-D6DD-457B-9ADC-9DD7CAA4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5331-9E3D-4FC7-B4AC-D2B7748A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08AD-70A8-4A88-9D79-B0AF912A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0CE5-954F-46C4-9DB2-42F5BDEB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B506-73D2-48BC-BD30-9552CEDC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6465-6989-44E1-A8F4-2A4EAD59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23E3-93DF-4132-A137-BA5F8089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4358F-A40E-4B3C-909E-F0463F41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5E4CCC-9144-48FF-BED5-12163AB4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2BAC0-4775-44D1-8BB6-E4B13574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AF8AF0-C903-43E3-8050-4974C183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874FE-5B2E-4BC4-9929-56DFEBCA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AA93-5E56-487F-9DA1-1B6B5098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976F39-AE5C-4131-AD1A-96FB1B6E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0E6D1-5DCF-4474-91FA-2F0E1CB7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B16742-D7F9-467B-9D55-B02DAE87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33F3A8-F522-44D5-9FAF-E36577E1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7EED53-2745-4161-85DD-2F2C33DB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DA7617-A802-4045-BBFB-7E486453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FF9090-9538-440D-B14C-1904ADFF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5596C-473A-4045-8597-8F116BD9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DE491-C52B-4591-849B-2ABBCF98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47DFC-F15A-4C9F-975C-FBD6FFB0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058D-4B72-4995-B34E-387EF806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7B7E4-EAD2-4771-879D-49670C17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0EE9E-6293-49F3-A717-040348AB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A247A-5157-413A-9232-7632E6CE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03530-C652-4D51-BF75-A578F43E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CE1B5-7992-49FD-B573-47247862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C109C-FE09-4729-B3D1-250337CC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398AA-B0E1-4A89-A068-2A327206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7BE18-F415-4A15-A617-9D45E61F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A0E5A-9B5E-4545-A6B7-3F38ED56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4FB389-8852-4EBB-8BD0-08B9E889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48C0-3A0A-4ED3-8DBE-056FF231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31F73C-0926-47BD-97EA-882FD245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DB1DBF-52C5-4625-9319-98CC967E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B5B00B-A540-4087-B1E9-C6B0F883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FE1A63-BBE0-414B-ABEF-314D5D42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98E876-D50E-49B7-B71D-868DC2C3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2D6E46-C518-4F3C-9759-2017C6F7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74C7B5-A6AA-4154-B3FF-15D26F82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1A5BA3-7776-465A-9BEE-8290C49A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A2742F-A6B2-4FD6-877D-EF777F64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0FDC3F-3FD8-4EF7-8574-BFF1713A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0751-F541-4220-87C0-04C2375E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368316-DD3F-45E9-B9CC-E4C04A09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C6AB6A-B4DF-4FE4-8D00-BFA1483A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F6AB4B-25CD-4EFC-99D9-84A7CB89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85ACD5-DA86-4F82-A7BD-8934CB93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267094-B24B-4B46-9D8A-702D6E08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73966F-F7C7-4B9F-9C4E-FC135D79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A8D4B2-F9E5-459A-B08C-3F1D6468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4BA195-53A0-49A9-815B-46F80369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582FD3-0C07-47E5-9513-C827C907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54FB71-EFC8-4EA2-BB41-CBB43AFA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90EE-3A7B-44F5-9BFD-CD3C2DEA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5CA250-FB6D-43D3-B8E9-C7F0E20D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18F935-CA7C-4AD8-9DD9-BE5E842F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196E1C-48AD-4667-AA93-659E739B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F025AA-9673-4C7B-AA64-3B0BF079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B4C72B-8B65-4BD6-B40C-0A41C36F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A354DB-329E-4C7E-82FD-DBF0F358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663A23-A9EA-4E81-9013-9B970E16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5B9E11-BFB1-49DF-AE91-D6D60CB4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171E66-DC8A-43C3-A693-98D3FFEC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2B5EE3-FECA-4E5E-A676-8FAEBB8D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4F54-87D5-4D8F-93BD-F937CF13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BE2633-84AB-4200-B6F6-3684E814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300C41-6FC7-4B9B-BFCA-790F8C56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DFEC55-4FA5-41D3-8788-4876F737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A3673C-7FAD-413A-9149-9FA4BDDC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75BA29-A65A-4C72-844C-9651AD90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3608-1B69-4A01-99DA-4E542550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7F34-31C0-4814-BD66-2417F4B49B3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4F3A-E858-4B5C-81D9-462424947A0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0DDB-55EC-424C-AE5E-1131CCC46B1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2E07-F95E-4B2F-8329-08D43657FAD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88A1-73D7-4980-9A9E-00530C7F0BF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1BA4-340E-4835-97E9-B25175200A4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5A07-49EC-4E4E-A705-7BF76A3AF85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685800" y="917640"/>
            <a:ext cx="8153280" cy="22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4600"/>
                </a:solidFill>
                <a:latin typeface="Book Antiqua"/>
              </a:rPr>
              <a:t>«Профилактика грипп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0"/>
          <p:cNvSpPr/>
          <p:nvPr/>
        </p:nvSpPr>
        <p:spPr>
          <a:xfrm>
            <a:off x="3581280" y="5105520"/>
            <a:ext cx="32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0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  <p:pic>
        <p:nvPicPr>
          <p:cNvPr id="354" name="Picture 12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2114640" cy="335304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8" descr="5.jpg"/>
          <p:cNvPicPr/>
          <p:nvPr/>
        </p:nvPicPr>
        <p:blipFill>
          <a:blip r:embed="rId3"/>
          <a:stretch/>
        </p:blipFill>
        <p:spPr>
          <a:xfrm>
            <a:off x="6934320" y="3200400"/>
            <a:ext cx="158436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3"/>
          <p:cNvSpPr/>
          <p:nvPr/>
        </p:nvSpPr>
        <p:spPr>
          <a:xfrm>
            <a:off x="457200" y="762120"/>
            <a:ext cx="3657600" cy="236196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спублике Татарстан в сезон 2015-2016 гг. привито  1039640 челове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трелка вправо с вырезом 4"/>
          <p:cNvSpPr/>
          <p:nvPr/>
        </p:nvSpPr>
        <p:spPr>
          <a:xfrm>
            <a:off x="4191120" y="1371600"/>
            <a:ext cx="1434960" cy="789120"/>
          </a:xfrm>
          <a:custGeom>
            <a:avLst/>
            <a:gdLst>
              <a:gd name="textAreaLeft" fmla="*/ 197280 w 1434960"/>
              <a:gd name="textAreaRight" fmla="*/ 1237680 w 1434960"/>
              <a:gd name="textAreaTop" fmla="*/ 197280 h 789120"/>
              <a:gd name="textAreaBottom" fmla="*/ 591840 h 789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662" y="5400"/>
                </a:lnTo>
                <a:lnTo>
                  <a:pt x="15662" y="0"/>
                </a:lnTo>
                <a:lnTo>
                  <a:pt x="21600" y="10800"/>
                </a:lnTo>
                <a:lnTo>
                  <a:pt x="15662" y="21600"/>
                </a:lnTo>
                <a:lnTo>
                  <a:pt x="15662" y="16200"/>
                </a:lnTo>
                <a:lnTo>
                  <a:pt x="0" y="16200"/>
                </a:lnTo>
                <a:lnTo>
                  <a:pt x="296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5"/>
          <p:cNvSpPr/>
          <p:nvPr/>
        </p:nvSpPr>
        <p:spPr>
          <a:xfrm>
            <a:off x="5715000" y="685800"/>
            <a:ext cx="3124080" cy="25909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ват - 27,3% от численности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6"/>
          <p:cNvSpPr/>
          <p:nvPr/>
        </p:nvSpPr>
        <p:spPr>
          <a:xfrm>
            <a:off x="5638680" y="3657600"/>
            <a:ext cx="3200400" cy="22096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ват – 31,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трелка вправо с вырезом 7"/>
          <p:cNvSpPr/>
          <p:nvPr/>
        </p:nvSpPr>
        <p:spPr>
          <a:xfrm>
            <a:off x="4114800" y="4495680"/>
            <a:ext cx="1434960" cy="789120"/>
          </a:xfrm>
          <a:custGeom>
            <a:avLst/>
            <a:gdLst>
              <a:gd name="textAreaLeft" fmla="*/ 197280 w 1434960"/>
              <a:gd name="textAreaRight" fmla="*/ 1237680 w 1434960"/>
              <a:gd name="textAreaTop" fmla="*/ 197280 h 789120"/>
              <a:gd name="textAreaBottom" fmla="*/ 591840 h 789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662" y="5400"/>
                </a:lnTo>
                <a:lnTo>
                  <a:pt x="15662" y="0"/>
                </a:lnTo>
                <a:lnTo>
                  <a:pt x="21600" y="10800"/>
                </a:lnTo>
                <a:lnTo>
                  <a:pt x="15662" y="21600"/>
                </a:lnTo>
                <a:lnTo>
                  <a:pt x="15662" y="16200"/>
                </a:lnTo>
                <a:lnTo>
                  <a:pt x="0" y="16200"/>
                </a:lnTo>
                <a:lnTo>
                  <a:pt x="296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8"/>
          <p:cNvSpPr/>
          <p:nvPr/>
        </p:nvSpPr>
        <p:spPr>
          <a:xfrm>
            <a:off x="457200" y="3809880"/>
            <a:ext cx="3429000" cy="2286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йской Федерации в сезон 2015-2016 гг. привито  44,9 млн. челове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РИЗНАКИ ГРИППА: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599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зкое повышение температуры тела (выше 38°С) без каких- либо сопутствующих симптом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ловная бол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ль в мыщца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ль в горле, кашел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сморк, заложенность нос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вота и диаре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4" descr="\\fs\Отделы\ЭПИДНАДЗОР\Василенко-ЯО\ГРИПП\МЕРОПРИЯТИЯ_ГРИПП\разьяснит работа-НАСЕЛЕНИЕ сезон 16-17 гг\В ТО письмо-4.08.16 г\migren-i-temperatura.jpg"/>
          <p:cNvPicPr/>
          <p:nvPr/>
        </p:nvPicPr>
        <p:blipFill>
          <a:blip r:embed="rId1"/>
          <a:stretch/>
        </p:blipFill>
        <p:spPr>
          <a:xfrm>
            <a:off x="4648320" y="1066680"/>
            <a:ext cx="1904760" cy="11685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\\fs\Отделы\ЭПИДНАДЗОР\Василенко-ЯО\ГРИПП\МЕРОПРИЯТИЯ_ГРИПП\разьяснит работа-НАСЕЛЕНИЕ сезон 16-17 гг\В ТО письмо-4.08.16 г\goglovnaya_bol.jpg"/>
          <p:cNvPicPr/>
          <p:nvPr/>
        </p:nvPicPr>
        <p:blipFill>
          <a:blip r:embed="rId2"/>
          <a:stretch/>
        </p:blipFill>
        <p:spPr>
          <a:xfrm>
            <a:off x="6858000" y="1066680"/>
            <a:ext cx="1447920" cy="9684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\\fs\Отделы\ЭПИДНАДЗОР\Василенко-ЯО\ГРИПП\МЕРОПРИЯТИЯ_ГРИПП\разьяснит работа-НАСЕЛЕНИЕ сезон 16-17 гг\В ТО письмо-4.08.16 г\oznob-i-potlivost-bez-temperatury.jpg"/>
          <p:cNvPicPr/>
          <p:nvPr/>
        </p:nvPicPr>
        <p:blipFill>
          <a:blip r:embed="rId3"/>
          <a:stretch/>
        </p:blipFill>
        <p:spPr>
          <a:xfrm>
            <a:off x="6477120" y="2286000"/>
            <a:ext cx="1981080" cy="11858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\\fs\Отделы\ЭПИДНАДЗОР\Василенко-ЯО\ГРИПП\МЕРОПРИЯТИЯ_ГРИПП\разьяснит работа-НАСЕЛЕНИЕ сезон 16-17 гг\В ТО письмо-4.08.16 г\1_142.jpg"/>
          <p:cNvPicPr/>
          <p:nvPr/>
        </p:nvPicPr>
        <p:blipFill>
          <a:blip r:embed="rId4"/>
          <a:stretch/>
        </p:blipFill>
        <p:spPr>
          <a:xfrm>
            <a:off x="5943600" y="3581280"/>
            <a:ext cx="2440080" cy="18306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" descr="\\fs\Отделы\ЭПИДНАДЗОР\Василенко-ЯО\ГРИПП\МЕРОПРИЯТИЯ_ГРИПП\разьяснит работа-НАСЕЛЕНИЕ сезон 16-17 гг\В ТО письмо-4.08.16 г\55000.jpg"/>
          <p:cNvPicPr/>
          <p:nvPr/>
        </p:nvPicPr>
        <p:blipFill>
          <a:blip r:embed="rId5"/>
          <a:stretch/>
        </p:blipFill>
        <p:spPr>
          <a:xfrm>
            <a:off x="4572000" y="2514600"/>
            <a:ext cx="1698480" cy="1924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9" descr="\\fs\Отделы\ЭПИДНАДЗОР\Василенко-ЯО\ГРИПП\МЕРОПРИЯТИЯ_ГРИПП\разьяснит работа-НАСЕЛЕНИЕ сезон 16-17 гг\В ТО письмо-4.08.16 г\kak-lechit-otravlenie-u-detej-rvota-i-temperatura-11.jpg"/>
          <p:cNvPicPr/>
          <p:nvPr/>
        </p:nvPicPr>
        <p:blipFill>
          <a:blip r:embed="rId6"/>
          <a:stretch/>
        </p:blipFill>
        <p:spPr>
          <a:xfrm>
            <a:off x="4419720" y="4724280"/>
            <a:ext cx="1523880" cy="17640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11"/>
          <p:cNvSpPr/>
          <p:nvPr/>
        </p:nvSpPr>
        <p:spPr>
          <a:xfrm>
            <a:off x="685800" y="617220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ОЖНО ЗАРАЗИТЬСЯ ВИРУСОМ ГРИППА И ГДЕ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онтакте с больным человеком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онтакте с человеком с признаками гриппа на расстоянии до 2 м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могут заразиться в детском саду и школе, взрослые в общественных местах (театры, торговые центры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9" descr="http://www.factroom.ru/facts/wp-content/uploads/2014/04/454-620x413.jpg"/>
          <p:cNvPicPr/>
          <p:nvPr/>
        </p:nvPicPr>
        <p:blipFill>
          <a:blip r:embed="rId1"/>
          <a:stretch/>
        </p:blipFill>
        <p:spPr>
          <a:xfrm>
            <a:off x="762120" y="4419720"/>
            <a:ext cx="3276360" cy="2182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1" descr="http://s25.uo15.ru/wp-content/uploads/2015/09/%D0%93%D0%98%D0%91%D0%94%D0%94_2015_2.jpg"/>
          <p:cNvPicPr/>
          <p:nvPr/>
        </p:nvPicPr>
        <p:blipFill>
          <a:blip r:embed="rId2"/>
          <a:stretch/>
        </p:blipFill>
        <p:spPr>
          <a:xfrm>
            <a:off x="5181480" y="2438280"/>
            <a:ext cx="3522960" cy="1981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5" descr="http://las-vegas.su/wp-content/uploads/2015/06/detskie-parovoziki.png"/>
          <p:cNvPicPr/>
          <p:nvPr/>
        </p:nvPicPr>
        <p:blipFill>
          <a:blip r:embed="rId3"/>
          <a:stretch/>
        </p:blipFill>
        <p:spPr>
          <a:xfrm>
            <a:off x="5029200" y="4724280"/>
            <a:ext cx="3645000" cy="1600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\\fs\Отделы\ЭПИДНАДЗОР\Василенко-ЯО\ГРИПП\МЕРОПРИЯТИЯ_ГРИПП\разьяснит работа-НАСЕЛЕНИЕ сезон 16-17 гг\В ТО письмо-4.08.16 г\198340.jpg"/>
          <p:cNvPicPr/>
          <p:nvPr/>
        </p:nvPicPr>
        <p:blipFill>
          <a:blip r:embed="rId4"/>
          <a:stretch/>
        </p:blipFill>
        <p:spPr>
          <a:xfrm>
            <a:off x="685800" y="2286000"/>
            <a:ext cx="3581280" cy="2043000"/>
          </a:xfrm>
          <a:prstGeom prst="rect">
            <a:avLst/>
          </a:prstGeom>
          <a:ln w="0">
            <a:noFill/>
          </a:ln>
        </p:spPr>
      </p:pic>
      <p:sp>
        <p:nvSpPr>
          <p:cNvPr id="377" name="Прямоугольник 9"/>
          <p:cNvSpPr/>
          <p:nvPr/>
        </p:nvSpPr>
        <p:spPr>
          <a:xfrm>
            <a:off x="4114800" y="6396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БЕРЕЧЬСЯ ОТ ЗАРАЖЕНИЯ ГРИППОМ: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457200"/>
            <a:ext cx="3657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делать прививку против гриппа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ить посещения мест большого скопления людей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крывать нос и рот при чихании или кашле одноразовой салфеткой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встрече с человеком с признаками гриппа, держитесь от него на расстоянии &gt; 2 м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асто проветривать помещения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лажная уборка помещений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ноценно питаться, высыпаться, избегать переутомления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прикасаться к глазам, носу или рту немытыми руками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держиваться правил личной гигиены, часто мыть руки с мылом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2" descr="\\fs\Отделы\ЭПИДНАДЗОР\Василенко-ЯО\ГРИПП\МЕРОПРИЯТИЯ_ГРИПП\разьяснит работа-НАСЕЛЕНИЕ сезон 16-17 гг\В ТО письмо-4.08.16 г\depositphotos_11078500-in-the-crowd.jpg"/>
          <p:cNvPicPr/>
          <p:nvPr/>
        </p:nvPicPr>
        <p:blipFill>
          <a:blip r:embed="rId1"/>
          <a:stretch/>
        </p:blipFill>
        <p:spPr>
          <a:xfrm>
            <a:off x="6477120" y="533520"/>
            <a:ext cx="2212920" cy="16761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\\fs\Отделы\ЭПИДНАДЗОР\Василенко-ЯО\ГРИПП\МЕРОПРИЯТИЯ_ГРИПП\разьяснит работа-НАСЕЛЕНИЕ сезон 16-17 гг\В ТО письмо-4.08.16 г\i.jpg"/>
          <p:cNvPicPr/>
          <p:nvPr/>
        </p:nvPicPr>
        <p:blipFill>
          <a:blip r:embed="rId2"/>
          <a:stretch/>
        </p:blipFill>
        <p:spPr>
          <a:xfrm>
            <a:off x="4419720" y="609480"/>
            <a:ext cx="1523880" cy="15033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\\fs\Отделы\ЭПИДНАДЗОР\Василенко-ЯО\ГРИПП\МЕРОПРИЯТИЯ_ГРИПП\разьяснит работа-НАСЕЛЕНИЕ сезон 16-17 гг\В ТО письмо-4.08.16 г\kak-predupredit-gripp_11_1.jpeg"/>
          <p:cNvPicPr/>
          <p:nvPr/>
        </p:nvPicPr>
        <p:blipFill>
          <a:blip r:embed="rId3"/>
          <a:stretch/>
        </p:blipFill>
        <p:spPr>
          <a:xfrm>
            <a:off x="6248520" y="2286000"/>
            <a:ext cx="2058840" cy="15447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7" descr="\\fs\Отделы\ЭПИДНАДЗОР\Василенко-ЯО\ГРИПП\МЕРОПРИЯТИЯ_ГРИПП\разьяснит работа-НАСЕЛЕНИЕ сезон 16-17 гг\В ТО письмо-4.08.16 г\Plastikovie_okna_pravilniy.jpg"/>
          <p:cNvPicPr/>
          <p:nvPr/>
        </p:nvPicPr>
        <p:blipFill>
          <a:blip r:embed="rId4"/>
          <a:stretch/>
        </p:blipFill>
        <p:spPr>
          <a:xfrm>
            <a:off x="6400800" y="3809880"/>
            <a:ext cx="2057400" cy="1322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8" descr="\\fs\Отделы\ЭПИДНАДЗОР\Василенко-ЯО\ГРИПП\МЕРОПРИЯТИЯ_ГРИПП\разьяснит работа-НАСЕЛЕНИЕ сезон 16-17 гг\В ТО письмо-4.08.16 г\wash_hands1.jpg"/>
          <p:cNvPicPr/>
          <p:nvPr/>
        </p:nvPicPr>
        <p:blipFill>
          <a:blip r:embed="rId5"/>
          <a:stretch/>
        </p:blipFill>
        <p:spPr>
          <a:xfrm>
            <a:off x="3962520" y="2133720"/>
            <a:ext cx="1409760" cy="14097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0" descr="\\fs\Отделы\ЭПИДНАДЗОР\Василенко-ЯО\ГРИПП\МЕРОПРИЯТИЯ_ГРИПП\разьяснит работа-НАСЕЛЕНИЕ сезон 16-17 гг\В ТО письмо-4.08.16 г\i (1).jpg"/>
          <p:cNvPicPr/>
          <p:nvPr/>
        </p:nvPicPr>
        <p:blipFill>
          <a:blip r:embed="rId6"/>
          <a:stretch/>
        </p:blipFill>
        <p:spPr>
          <a:xfrm>
            <a:off x="4495680" y="3886200"/>
            <a:ext cx="2133720" cy="2405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уборка"/>
          <p:cNvPicPr/>
          <p:nvPr/>
        </p:nvPicPr>
        <p:blipFill>
          <a:blip r:embed="rId7"/>
          <a:stretch/>
        </p:blipFill>
        <p:spPr>
          <a:xfrm>
            <a:off x="6629400" y="5105520"/>
            <a:ext cx="1628640" cy="144756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14"/>
          <p:cNvSpPr/>
          <p:nvPr/>
        </p:nvSpPr>
        <p:spPr>
          <a:xfrm>
            <a:off x="838080" y="617220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АЦИЯ ОТ ГРИППА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кцинироваться от гриппа нужно в осенний период 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вивка не ослабляет, а наоборот, усиливает способность организма противостоять гриппу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акцинация проводится после осмотра врач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3" descr="\\fs\Отделы\ЭПИДНАДЗОР\Василенко-ЯО\ГРИПП\МЕРОПРИЯТИЯ_ГРИПП\разьяснит работа-НАСЕЛЕНИЕ сезон 16-17 гг\В ТО письмо-4.08.16 г\2477752_шприц-вектора-стороны-эскиз-cartoon-медицинской.jpg"/>
          <p:cNvPicPr/>
          <p:nvPr/>
        </p:nvPicPr>
        <p:blipFill>
          <a:blip r:embed="rId1"/>
          <a:stretch/>
        </p:blipFill>
        <p:spPr>
          <a:xfrm>
            <a:off x="3352680" y="4114800"/>
            <a:ext cx="3429000" cy="205740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8"/>
          <p:cNvSpPr/>
          <p:nvPr/>
        </p:nvSpPr>
        <p:spPr>
          <a:xfrm>
            <a:off x="304920" y="617220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ГО ГРИПП ОПАСНЫЙ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до 5 лет (особенно дети до 2 лет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льные сахарным диабето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льные с хроническими заболеваниями легки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ременные женщин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юди с лишним весо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ольные с хроническими сердечно-сосудистыми заболеваниям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юди с другими хроническими заболевания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старше 60 ле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Прямоугольник 3"/>
          <p:cNvSpPr/>
          <p:nvPr/>
        </p:nvSpPr>
        <p:spPr>
          <a:xfrm>
            <a:off x="1066680" y="6095880"/>
            <a:ext cx="716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Е ГРУППЫ РИСКА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1426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дицинские работник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ителя и воспитател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давц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дители, кондуктор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ботники общественных мес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7" name="Picture 4" descr="\\fs\Отделы\ЭПИДНАДЗОР\Василенко-ЯО\ГРИПП\МЕРОПРИЯТИЯ_ГРИПП\разьяснит работа-НАСЕЛЕНИЕ сезон 16-17 гг\В ТО письмо-4.08.16 г\6960575.png"/>
          <p:cNvPicPr/>
          <p:nvPr/>
        </p:nvPicPr>
        <p:blipFill>
          <a:blip r:embed="rId1"/>
          <a:stretch/>
        </p:blipFill>
        <p:spPr>
          <a:xfrm>
            <a:off x="4343400" y="1981080"/>
            <a:ext cx="1828800" cy="12416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6" descr="\\fs\Отделы\ЭПИДНАДЗОР\Василенко-ЯО\ГРИПП\МЕРОПРИЯТИЯ_ГРИПП\разьяснит работа-НАСЕЛЕНИЕ сезон 16-17 гг\В ТО письмо-4.08.16 г\depositphotos_47242093-Delivery-truck-driver-waving-cartoon.jpg"/>
          <p:cNvPicPr/>
          <p:nvPr/>
        </p:nvPicPr>
        <p:blipFill>
          <a:blip r:embed="rId2"/>
          <a:stretch/>
        </p:blipFill>
        <p:spPr>
          <a:xfrm>
            <a:off x="4564080" y="3421080"/>
            <a:ext cx="15840" cy="144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8" descr="\\fs\Отделы\ЭПИДНАДЗОР\Василенко-ЯО\ГРИПП\МЕРОПРИЯТИЯ_ГРИПП\разьяснит работа-НАСЕЛЕНИЕ сезон 16-17 гг\В ТО письмо-4.08.16 г\11529427-Cartoon-car-with-a-man-driver-and-passenger-a-woman-Vector-Stock-Vector.jpg"/>
          <p:cNvPicPr/>
          <p:nvPr/>
        </p:nvPicPr>
        <p:blipFill>
          <a:blip r:embed="rId3"/>
          <a:stretch/>
        </p:blipFill>
        <p:spPr>
          <a:xfrm>
            <a:off x="6477120" y="3809880"/>
            <a:ext cx="1676160" cy="13748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9" descr="\\fs\Отделы\ЭПИДНАДЗОР\Василенко-ЯО\ГРИПП\МЕРОПРИЯТИЯ_ГРИПП\разьяснит работа-НАСЕЛЕНИЕ сезон 16-17 гг\В ТО письмо-4.08.16 г\train-conductor.jpg"/>
          <p:cNvPicPr/>
          <p:nvPr/>
        </p:nvPicPr>
        <p:blipFill>
          <a:blip r:embed="rId4"/>
          <a:stretch/>
        </p:blipFill>
        <p:spPr>
          <a:xfrm>
            <a:off x="4267080" y="4267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0" descr="\\fs\Отделы\ЭПИДНАДЗОР\Василенко-ЯО\ГРИПП\МЕРОПРИЯТИЯ_ГРИПП\разьяснит работа-НАСЕЛЕНИЕ сезон 16-17 гг\В ТО письмо-4.08.16 г\ne_zabytoe_staroe.jpg"/>
          <p:cNvPicPr/>
          <p:nvPr/>
        </p:nvPicPr>
        <p:blipFill>
          <a:blip r:embed="rId5"/>
          <a:stretch/>
        </p:blipFill>
        <p:spPr>
          <a:xfrm>
            <a:off x="5943600" y="5334120"/>
            <a:ext cx="1828800" cy="12175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2" descr="\\fs\Отделы\ЭПИДНАДЗОР\Василенко-ЯО\ГРИПП\МЕРОПРИЯТИЯ_ГРИПП\разьяснит работа-НАСЕЛЕНИЕ сезон 16-17 гг\В ТО письмо-4.08.16 г\рррррррррррр.jpg"/>
          <p:cNvPicPr/>
          <p:nvPr/>
        </p:nvPicPr>
        <p:blipFill>
          <a:blip r:embed="rId6"/>
          <a:stretch/>
        </p:blipFill>
        <p:spPr>
          <a:xfrm>
            <a:off x="1600200" y="3429000"/>
            <a:ext cx="1943280" cy="12952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3" descr="\\fs\Отделы\ЭПИДНАДЗОР\Василенко-ЯО\ГРИПП\МЕРОПРИЯТИЯ_ГРИПП\разьяснит работа-НАСЕЛЕНИЕ сезон 16-17 гг\В ТО письмо-4.08.16 г\sm.jpg"/>
          <p:cNvPicPr/>
          <p:nvPr/>
        </p:nvPicPr>
        <p:blipFill>
          <a:blip r:embed="rId7"/>
          <a:stretch/>
        </p:blipFill>
        <p:spPr>
          <a:xfrm>
            <a:off x="1219320" y="1066680"/>
            <a:ext cx="1218960" cy="156852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25"/>
          <p:cNvSpPr/>
          <p:nvPr/>
        </p:nvSpPr>
        <p:spPr>
          <a:xfrm>
            <a:off x="1066680" y="60958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7"/>
          <p:cNvSpPr/>
          <p:nvPr/>
        </p:nvSpPr>
        <p:spPr>
          <a:xfrm>
            <a:off x="684360" y="4797360"/>
            <a:ext cx="79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УДЬТЕ ЗДОРОВ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делай прививку сейчас, чтобы не болеть пото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2627280" y="260280"/>
            <a:ext cx="3816360" cy="388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rinthian</dc:creator>
  <dc:description/>
  <dc:language>en-US</dc:language>
  <cp:lastModifiedBy>1</cp:lastModifiedBy>
  <dcterms:modified xsi:type="dcterms:W3CDTF">2016-09-13T04:55:46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