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9FF887-EED2-4807-8C20-44F5891300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B6CCD6-3AE5-444E-9801-3E9F4B1951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EE90CF-F655-414B-8112-B7904B3EE8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0A8-52EA-4F52-888D-3B2C3EB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6EC-EB8C-4FFB-80F9-1EC29A7D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5CF-9566-4B30-89BF-96102D3F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BCF-258D-44AB-A4B7-8F2ABDF7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A6D-5A50-4BE0-A6E4-D96E05F7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20DB-58E4-401F-B0C0-886971FD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4E0-10B4-426B-B70F-6C7B4372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27F4-89DB-4D9A-A290-B3A01AC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0378-6995-4CBF-9EB9-F622D90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5CE3-F7EB-4D81-A3B8-EAD9CC1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E907-A015-43D5-887C-F3FC487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59-4770-49AA-9E42-A5896866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8882-2CE7-427F-BB9E-4DE1A32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F366-DDB2-4617-886E-F031530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A11-2A54-4EF1-A880-C13E54C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E94-3241-49A0-AB19-46785B5C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475-0C0D-4FC8-A440-3438E5B1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6C7-E8AF-4CE7-BE40-54A4A7D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C0E-C929-42BD-8F5B-9B6D867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347-B04A-42B3-9092-562B7854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A3F-3B7C-4F8B-B14B-0F2D54E7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CA3-07EA-40CD-AA41-47110BB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C49-8F48-4323-A30C-83D339C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75A-C7A1-4D79-9A28-B674CA6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665-D3D0-412F-9723-F258D8F0985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36D-A39C-4F72-8BE6-7FB87C2D58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46144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66720" y="45720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Выполнил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Казаринов Антон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4 «Г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Руководитель: Галина Васильевна</a:t>
            </a:r>
            <a:r>
              <a:rPr b="0" lang="en-US" sz="2800" spc="-1" strike="noStrike">
                <a:solidFill>
                  <a:srgbClr val="ceb9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Тимошки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...Was...  Marilyn Monroe a famous actress?" "Yes, she ...was...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 "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fred Hitchcock an actor?" "No, he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famous direc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 "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eethoven, Mozart and Chopin directors? No, 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mposers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 "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omas Edison a singer?" "No, 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....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 inven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 "....................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braham  Lincoln  and  George Washington presidents of the USA?" "Yes, they ............ 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...am... cold. Please, close the window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 and Jean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Spain last week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rah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n years old in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995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eorg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ired. He is going to bed now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secretary. I work in a big offic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Peter's house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7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um and Dad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home last nigh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8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rr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y friend. He lives next doo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9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ison and Kat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ate for schoo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0   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cameramen at the studio now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s / with I you / who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eting I at I were / people / how man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ou I were / sad / wh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night / you / at / home / wer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n I was / shop /th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re / much / tickets / the / h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t was clos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ty-fiv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   ......................................................................£20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cause I was alon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 was ou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was with you?...    Aunt Mar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"/>
          <p:cNvPicPr/>
          <p:nvPr/>
        </p:nvPicPr>
        <p:blipFill>
          <a:blip r:embed="rId2"/>
          <a:stretch/>
        </p:blipFill>
        <p:spPr>
          <a:xfrm>
            <a:off x="378000" y="298440"/>
            <a:ext cx="8321400" cy="601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АНТОН\Мои документы\Мои рисунки\Гарри Поттер\Отсканировано 28.03.2008 19-20.bmp"/>
          <p:cNvPicPr/>
          <p:nvPr/>
        </p:nvPicPr>
        <p:blipFill>
          <a:blip r:embed="rId2"/>
          <a:stretch/>
        </p:blipFill>
        <p:spPr>
          <a:xfrm>
            <a:off x="152280" y="1066680"/>
            <a:ext cx="4343400" cy="261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af9738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Bob is eighty. He's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ol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n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weak.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Fifty years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go they were young. Bo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Mary, his wife is seventy-nine. was strong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He wasn't weak. Mary was                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She's old too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 beautiful. She wasn't ol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af9738"/>
                </a:solidFill>
                <a:latin typeface="Book Antiqua"/>
              </a:rPr>
              <a:t>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C:\Documents and Settings\АНТОН\Мои документы\Мои рисунки\Гарри Поттер\Копия Отсканировано 28.03.2008 19-20.bmp"/>
          <p:cNvPicPr/>
          <p:nvPr/>
        </p:nvPicPr>
        <p:blipFill>
          <a:blip r:embed="rId3"/>
          <a:stretch/>
        </p:blipFill>
        <p:spPr>
          <a:xfrm>
            <a:off x="4572000" y="1066680"/>
            <a:ext cx="444960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прошедшем простом времени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(past simpl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*) глагол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"to be"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с личными местоимениями именительном падеже имеет следующие формы: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I, he, she, it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и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er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you, they.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вопросах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I wer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ставятся перед личным местоимением в именительном падеж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(I, you, h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и т.д.) или существительным. 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ill yesterday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-&gt;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she ill yesterday?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Отрицания образуются путем постановки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not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посл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I were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not ill yesterday. I She wasn't il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* Иногда употребляется термин </a:t>
            </a:r>
            <a:r>
              <a:rPr b="0" i="1" lang="en-US" sz="2600" spc="-1" strike="noStrike">
                <a:solidFill>
                  <a:srgbClr val="af9738"/>
                </a:solidFill>
                <a:latin typeface="Book Antiqua"/>
              </a:rPr>
              <a:t>past indefini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Таблица 4" descr=""/>
          <p:cNvPicPr/>
          <p:nvPr/>
        </p:nvPicPr>
        <p:blipFill>
          <a:blip r:embed="rId2"/>
          <a:stretch/>
        </p:blipFill>
        <p:spPr>
          <a:xfrm>
            <a:off x="231840" y="1146240"/>
            <a:ext cx="882648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A: Where were you at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8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o'clock yesterday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В: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I was at the cine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1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cine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2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Helen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Tom and Mary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thea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4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Mr Miller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wo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5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Dori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h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6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and the boy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supermark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85219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y were in Berli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He was in hospital tw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nth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(When?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 month.)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eks ago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When? Two weeks ago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1828800" cy="216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182880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0"/>
          <p:cNvSpPr/>
          <p:nvPr/>
        </p:nvSpPr>
        <p:spPr>
          <a:xfrm>
            <a:off x="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потребляется для выражения действия, которое закончилось в определенное указанное время в прошлом. Иными словами, нам известно, когда (и часто где) оно произош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4"/>
          <a:stretch/>
        </p:blipFill>
        <p:spPr>
          <a:xfrm>
            <a:off x="1212840" y="-66600"/>
            <a:ext cx="6261120" cy="96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маркерам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носятся: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yesterday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eek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th, last year. two days I weeks I months I years ago,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day/ Tuesday, in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975 и т.д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ткие ответы строятся с помощью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es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го местоимения в именительном падеже и глагольных форм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as / wasn'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/ weren't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ржание вопроса не повторяется. Например: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you late yesterday? Yes, I was. I No, I wasn'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3048120"/>
          <a:ext cx="6095880" cy="2225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ere you …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I was/we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I wasn't/we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he/she/it w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he/she/it was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they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they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8"/>
          <p:cNvSpPr/>
          <p:nvPr/>
        </p:nvSpPr>
        <p:spPr>
          <a:xfrm>
            <a:off x="685800" y="5562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мечание. Когда говорим о людях, которых уже нет в живых, мы употребляем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9-10-08T07:06:55Z</dcterms:modified>
  <cp:revision>31</cp:revision>
  <dc:subject/>
  <dc:title>Слайд 1</dc:title>
</cp:coreProperties>
</file>